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CA4A-8032-41B2-AF9C-7E4ECD0EC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8B0E-6C3B-496C-A5C2-38B663A2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18B4-3D6B-4543-B4CF-256D92499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E917-1C12-4CD6-A304-763BAF0FB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6FD5-24DF-483B-891A-3CE5EDF1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B9A1-3DA9-44FE-A465-268A58E9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24F0-8ED7-4A96-8967-64E655C3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3FB2-9A3B-4195-9763-A06E9C00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2CFD-D027-4704-A249-D21E8523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BF68-2922-466E-83E3-C10350AD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3F4C-84D0-40E4-AED3-A15B460A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AF1C-5416-4865-A4F9-44DF111E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7875-6221-4214-8F3C-BA127592F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03640" y="1844640"/>
            <a:ext cx="2879640" cy="28796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82160" y="2924280"/>
            <a:ext cx="19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6MB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6ms @125MSa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8480" y="189000"/>
            <a:ext cx="554832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armed state of Circular Buff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uffer is filled with data from previous meas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trig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= point of time of trigger signal from previous measur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o incoming data is sto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uffer can be read out on de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96000" y="1916280"/>
            <a:ext cx="52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tr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651640" y="2277720"/>
            <a:ext cx="144360" cy="142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63640" y="5877000"/>
            <a:ext cx="56898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63640" y="573264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51640" y="573264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43280" y="573264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27640" y="6164280"/>
            <a:ext cx="523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tr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42920" y="6093000"/>
            <a:ext cx="1368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trig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– 128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77080" y="6165720"/>
            <a:ext cx="1297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trig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+ 128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419640" y="4076280"/>
            <a:ext cx="144360" cy="142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95640" y="4292640"/>
            <a:ext cx="131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tri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± 128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02160" y="49417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03640" y="1844640"/>
            <a:ext cx="2879640" cy="28796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7600" y="189000"/>
            <a:ext cx="7898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med Circular Buff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t t actual sample is written into buffer and moves one step (8 Byte (equal to 8ns)) for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3995640" y="1773360"/>
            <a:ext cx="144720" cy="28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86120" y="1413000"/>
            <a:ext cx="24480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995640" y="2060280"/>
            <a:ext cx="289080" cy="144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2160" y="2924280"/>
            <a:ext cx="19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6MB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6ms @125MSa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63640" y="5877000"/>
            <a:ext cx="56898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63640" y="573264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51640" y="573264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08720" y="6093000"/>
            <a:ext cx="2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87280" y="609300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 – 256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2160" y="49417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08720" y="6453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19280" y="6453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203640" y="1844640"/>
            <a:ext cx="2879640" cy="28796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6680" y="189000"/>
            <a:ext cx="382284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ircular Buffer at trigg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imestamp is set at t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tr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coming  data is still written into buf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363640" y="4005360"/>
            <a:ext cx="287640" cy="288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2160" y="2924280"/>
            <a:ext cx="19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6MB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6ms @125MSa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63640" y="5877000"/>
            <a:ext cx="2879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63640" y="573264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02160" y="49417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96000" y="4437000"/>
            <a:ext cx="52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tr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4221000"/>
            <a:ext cx="216000" cy="216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43280" y="573408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27640" y="6093000"/>
            <a:ext cx="52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tr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42920" y="6093000"/>
            <a:ext cx="1440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trig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– 128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00720" y="652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203640" y="1844640"/>
            <a:ext cx="2879640" cy="28796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2160" y="2924280"/>
            <a:ext cx="19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6MB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6ms @125MSa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520" y="189000"/>
            <a:ext cx="3682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ircular Buffer 128ms after trigg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ccquisition has finis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uffer turns into unarmed 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96000" y="4437000"/>
            <a:ext cx="52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tr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80000" y="4221000"/>
            <a:ext cx="216000" cy="216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63640" y="5877000"/>
            <a:ext cx="56898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63640" y="573264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51640" y="573264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43280" y="573264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27640" y="6164280"/>
            <a:ext cx="523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tr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6093000"/>
            <a:ext cx="1368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trig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– 128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77080" y="6165720"/>
            <a:ext cx="1297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trig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+ 128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635280" y="2133720"/>
            <a:ext cx="14472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40000" y="1773360"/>
            <a:ext cx="131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tri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± 128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02160" y="49417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86120" y="189000"/>
            <a:ext cx="6939720" cy="19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se of Circular Buffer for raw data acquisition in accelleration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soc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= start of accelleration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eoc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= end of accelleration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bo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= beginning of acquisite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eo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= end of acquisite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cquisited data can be read out random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4005360"/>
            <a:ext cx="806436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3860640"/>
            <a:ext cx="0" cy="28764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675640" y="3860640"/>
            <a:ext cx="0" cy="28764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3429000"/>
            <a:ext cx="576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s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8360" y="3500280"/>
            <a:ext cx="576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e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47640" y="4005360"/>
            <a:ext cx="3816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47640" y="3860640"/>
            <a:ext cx="0" cy="28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64000" y="3860640"/>
            <a:ext cx="0" cy="28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19640" y="3860640"/>
            <a:ext cx="0" cy="28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32000" y="4219560"/>
            <a:ext cx="524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tr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4221000"/>
            <a:ext cx="1368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trig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– 128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16360" y="4221000"/>
            <a:ext cx="1297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trig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+ 128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58920" y="3429000"/>
            <a:ext cx="576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b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76720" y="3429000"/>
            <a:ext cx="576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e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3960" y="1844640"/>
            <a:ext cx="4861080" cy="6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) Acquisition before and after trigger (curr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m signal has to come at least before t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b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1280" y="3068640"/>
            <a:ext cx="280836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2924280"/>
            <a:ext cx="0" cy="2887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19640" y="2924280"/>
            <a:ext cx="0" cy="93636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2565360"/>
            <a:ext cx="576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PT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11280" y="4005360"/>
            <a:ext cx="806436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1280" y="3860640"/>
            <a:ext cx="0" cy="28764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675640" y="3860640"/>
            <a:ext cx="0" cy="28764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3429000"/>
            <a:ext cx="576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s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388360" y="3500280"/>
            <a:ext cx="576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e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47640" y="4005360"/>
            <a:ext cx="3816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47640" y="3860640"/>
            <a:ext cx="0" cy="28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64000" y="3860640"/>
            <a:ext cx="0" cy="28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19640" y="3860640"/>
            <a:ext cx="0" cy="28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32000" y="4219560"/>
            <a:ext cx="524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tr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00000" y="4221000"/>
            <a:ext cx="1368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trig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– 128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16360" y="4221000"/>
            <a:ext cx="1297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trig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+ 128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58920" y="3429000"/>
            <a:ext cx="576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b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6720" y="3429000"/>
            <a:ext cx="576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e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5960" y="333360"/>
            <a:ext cx="56732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1) Acquisition only after trigger with virtual trigge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m signal has to come at least before t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b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se of a virtual trigger t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vtrig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which can be chosen by operato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PTIF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= t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vtrig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+ 128ms is automatically calculated and sent to P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3068640"/>
            <a:ext cx="280836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1280" y="2924280"/>
            <a:ext cx="0" cy="2887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9640" y="2924280"/>
            <a:ext cx="0" cy="93636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47640" y="2924280"/>
            <a:ext cx="0" cy="2887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32000" y="2565360"/>
            <a:ext cx="576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PT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58920" y="2565360"/>
            <a:ext cx="576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vtr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11280" y="4005360"/>
            <a:ext cx="806436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3860640"/>
            <a:ext cx="0" cy="28764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675640" y="3860640"/>
            <a:ext cx="0" cy="28764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3429000"/>
            <a:ext cx="576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s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8360" y="3500280"/>
            <a:ext cx="576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e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47640" y="4005360"/>
            <a:ext cx="3816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47640" y="3860640"/>
            <a:ext cx="0" cy="28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64000" y="3860640"/>
            <a:ext cx="0" cy="28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19640" y="3860640"/>
            <a:ext cx="0" cy="28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32000" y="4219560"/>
            <a:ext cx="524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tr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00000" y="4221000"/>
            <a:ext cx="1368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trig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– 128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16360" y="4221000"/>
            <a:ext cx="1297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trig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+ 128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58920" y="3429000"/>
            <a:ext cx="576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b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76720" y="3429000"/>
            <a:ext cx="576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e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6440" y="333360"/>
            <a:ext cx="74592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2) Acquisition only after trigger with delay generated inside the FP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m signal has to come at least before t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bo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perator choose trigger, which is sent directly to P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PGA gets trigger signal from PTIF and delays with 128ms (also free programm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47640" y="3068640"/>
            <a:ext cx="187200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47640" y="2924280"/>
            <a:ext cx="0" cy="28872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19640" y="2924280"/>
            <a:ext cx="0" cy="93636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87280" y="1628640"/>
            <a:ext cx="576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PT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1280" y="2205000"/>
            <a:ext cx="93636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2060640"/>
            <a:ext cx="0" cy="2887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47640" y="2060640"/>
            <a:ext cx="0" cy="863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17120" y="2708280"/>
            <a:ext cx="165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lay inside FP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11:28:06Z</dcterms:created>
  <dc:creator>Kevin Lang</dc:creator>
  <dc:description/>
  <dc:language>en-US</dc:language>
  <cp:lastModifiedBy>Kevin Lang</cp:lastModifiedBy>
  <dcterms:modified xsi:type="dcterms:W3CDTF">2008-09-16T17:49:42Z</dcterms:modified>
  <cp:revision>26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3798406</vt:r8>
  </property>
  <property fmtid="{D5CDD505-2E9C-101B-9397-08002B2CF9AE}" pid="3" name="_AuthorEmail">
    <vt:lpwstr>K.Lang@gsi.de</vt:lpwstr>
  </property>
  <property fmtid="{D5CDD505-2E9C-101B-9397-08002B2CF9AE}" pid="4" name="_AuthorEmailDisplayName">
    <vt:lpwstr>Lang, Kevin</vt:lpwstr>
  </property>
  <property fmtid="{D5CDD505-2E9C-101B-9397-08002B2CF9AE}" pid="5" name="_EmailSubject">
    <vt:lpwstr>Circular Buffer and FA addresses #2</vt:lpwstr>
  </property>
</Properties>
</file>